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2.jpeg" ContentType="image/jpeg"/>
  <Override PartName="/ppt/media/image20.wmf" ContentType="image/x-wmf"/>
  <Override PartName="/ppt/media/image5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014120" y="725040"/>
            <a:ext cx="483084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A48C3B4-A269-40A6-BC2B-ADE89BEDC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36F909B-7357-4688-8830-A898B44F0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A146C30-7E44-4EB0-96AB-9FE59CE6C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84C5265-798B-4FE1-9433-01ED2856F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76F402F-B915-4F63-B75C-F34F07DBE7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odo: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client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7027226-7BFB-42C9-B88C-921AAA7DB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77A4D9C-002B-4F90-BC7A-F24286C27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DDF2920-1960-40D5-9DE7-73F31231E2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icture; client, client request,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FCCE18C-02EE-4AEE-AD58-95DB5430D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AD0CF1E-6C3C-4872-8825-7379A2FA21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1CC448F-F3A2-4C2E-A5CA-BC5F1BFC7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5C82EED-24EA-45D4-B6EB-4038F0C865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F756294-9F31-4553-A654-5EE5BA00A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A00A2F8-3754-4DC9-AD7E-5FCEE56428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C5515D0-CFAD-473E-8C18-84E237C3B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1D70F28-B89D-4AFE-A9DF-1D219AD50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F6D3605-C48C-47D0-98C4-75AEFB054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5D3A2E1-4468-4BCD-863E-B4DD74C80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1E624C7-B4AA-4274-B36C-F762F81AD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BEABCAE-77EC-445E-9BDA-4EDB5488CD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BDC0771-9F54-47C8-8BAB-3BE078B24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52CA558-DB0F-4ADA-B9C5-5591AA1BAB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8375719-230F-460F-B39E-297448C28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41AA96A-8C40-4D44-8032-DCD7B0279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960C304-AD16-4373-9BE2-67B6EB1CB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6679DB6-9461-4B24-B258-EA3B241D3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A339CB0-601B-4020-9C41-4750D231C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FDB7FEC-AE9C-48D2-85D6-890E33F54F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0A9B9BD-485A-4930-B945-C6DEC24D2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575A30E-50CE-410F-9B80-3D78D8D05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F05A689-C077-44AC-8C0A-E37A81208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7742A0F-CA1F-4801-9407-38E8FE16F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0FCC951-A8B6-48CC-8E33-3FBCAA841A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F03CE18-3B53-40B0-A382-DEFF614B1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ED585CA-A5D8-47AB-9252-4416F10F9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2C34402-94B8-464D-9567-A2CF756C2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6B921DE-94B0-4B04-8AD7-977D421D1B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CCA8479-19C5-46DC-A314-B7823FF5D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B2FB08B-E882-43F9-BCA3-6F44D723C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01667FE-DEB6-4372-A94B-446118871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persona cards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2166002-A372-4FA4-9594-B8537322B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CD984A3-993F-455A-BDAB-2AA4E5E3B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AC7-0EF2-4C10-B118-2EE4C342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8E0-BA49-47A4-B456-482A2A00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BA6-9427-41B6-AC57-FC0AC7A5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39A-4671-4998-8F2B-346B08B1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3F5-F6FD-4287-AB07-7BC8420D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803-BE11-4C5D-A27B-1449ED07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8E1-FAA4-480A-AF6C-B0AADF5A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996-EDB7-4D00-AB41-B0EB26B8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54C-DA8C-44EA-A0D7-112DF570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D0F-C919-43F5-B57B-55DAED1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40A-ADFC-4F20-966F-9D35652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30F-3FBD-4D19-857F-172F650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A6F3-68A0-4271-90F7-1959BAFDE7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image" Target="../media/image20.wmf"/><Relationship Id="rId17" Type="http://schemas.openxmlformats.org/officeDocument/2006/relationships/image" Target="../media/image20.wmf"/><Relationship Id="rId18" Type="http://schemas.openxmlformats.org/officeDocument/2006/relationships/image" Target="../media/image20.wmf"/><Relationship Id="rId19" Type="http://schemas.openxmlformats.org/officeDocument/2006/relationships/image" Target="../media/image20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rtia 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cal Van Cauwenberg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urent Mori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© Vera Peeters et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éléchargez sur 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reative commons.png"/>
          <p:cNvPicPr/>
          <p:nvPr/>
        </p:nvPicPr>
        <p:blipFill>
          <a:blip r:embed="rId1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etra.png"/>
          <p:cNvPicPr/>
          <p:nvPr/>
        </p:nvPicPr>
        <p:blipFill>
          <a:blip r:embed="rId1"/>
          <a:stretch/>
        </p:blipFill>
        <p:spPr>
          <a:xfrm>
            <a:off x="5867280" y="1676520"/>
            <a:ext cx="3132360" cy="4876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mandes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ent satis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0 € par point de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satisfaction descend à 0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lien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ment gagner de l’argen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5842080" y="4724280"/>
            <a:ext cx="3149640" cy="6480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éra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mandes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and toutes les histoires sont implémentées et mises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ven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combien le client pa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satisfaction client augmente de ce nombre d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hateau.png"/>
          <p:cNvPicPr/>
          <p:nvPr/>
        </p:nvPicPr>
        <p:blipFill>
          <a:blip r:embed="rId1"/>
          <a:stretch/>
        </p:blipFill>
        <p:spPr>
          <a:xfrm>
            <a:off x="4478400" y="3711600"/>
            <a:ext cx="4437000" cy="307008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18"/>
          <p:cNvSpPr/>
          <p:nvPr/>
        </p:nvSpPr>
        <p:spPr>
          <a:xfrm>
            <a:off x="5105520" y="4495680"/>
            <a:ext cx="761760" cy="517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mande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5865840" y="4419720"/>
            <a:ext cx="763560" cy="5331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iez par revenu pu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imez la Valeur Métier de la De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hateau.png"/>
          <p:cNvPicPr/>
          <p:nvPr/>
        </p:nvPicPr>
        <p:blipFill>
          <a:blip r:embed="rId1"/>
          <a:stretch/>
        </p:blipFill>
        <p:spPr>
          <a:xfrm>
            <a:off x="4554360" y="3711600"/>
            <a:ext cx="4437360" cy="307008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9"/>
          <p:cNvSpPr/>
          <p:nvPr/>
        </p:nvSpPr>
        <p:spPr>
          <a:xfrm>
            <a:off x="6629400" y="4267080"/>
            <a:ext cx="1447920" cy="7621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1: Estimez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-1066680" y="44956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Première Itéra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aleur Métier = Re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ires d’Utilisate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story.png"/>
          <p:cNvPicPr/>
          <p:nvPr/>
        </p:nvPicPr>
        <p:blipFill>
          <a:blip r:embed="rId1"/>
          <a:stretch/>
        </p:blipFill>
        <p:spPr>
          <a:xfrm>
            <a:off x="6477120" y="3124080"/>
            <a:ext cx="2286000" cy="3419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ires d’Utilisate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ût: estimé par les développ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7696080" y="54864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story.png"/>
          <p:cNvPicPr/>
          <p:nvPr/>
        </p:nvPicPr>
        <p:blipFill>
          <a:blip r:embed="rId1"/>
          <a:stretch/>
        </p:blipFill>
        <p:spPr>
          <a:xfrm>
            <a:off x="6477120" y="3124080"/>
            <a:ext cx="2286000" cy="3419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2: Distribuez la Valeur Métier sur les His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aleur Métier: </a:t>
            </a:r>
            <a:br>
              <a:rPr sz="32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VM(histoires) == VM (demand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6320" y="438768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Première itéra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M(histoire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M(demande) / # d’his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7710480" y="52578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0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story.png"/>
          <p:cNvPicPr/>
          <p:nvPr/>
        </p:nvPicPr>
        <p:blipFill>
          <a:blip r:embed="rId1"/>
          <a:stretch/>
        </p:blipFill>
        <p:spPr>
          <a:xfrm>
            <a:off x="6477120" y="3124080"/>
            <a:ext cx="2286000" cy="3419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3: Triez les histoires par Valeur Métier/Coû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lculez la Valeur Métier/C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7696080" y="563868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Step-1-Prioritise-Stories-By-BV-Divided-By-Cost"/>
          <p:cNvPicPr/>
          <p:nvPr/>
        </p:nvPicPr>
        <p:blipFill>
          <a:blip r:embed="rId1"/>
          <a:srcRect l="0" t="11109" r="0" b="0"/>
          <a:stretch/>
        </p:blipFill>
        <p:spPr>
          <a:xfrm>
            <a:off x="2666880" y="18288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3: Triez les histoires par Valeur Métier/Coû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1488960"/>
                <a:gridCol w="1220760"/>
                <a:gridCol w="551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é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er les équi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ération 1 – Apprendre à jou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uer l’itéra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trospective itérations 1 et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uer les itérations 3 et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trospective itérations 3 et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uer les itérations 5 et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trospective et résum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Step-2-Sort-Stories-By-Theme"/>
          <p:cNvPicPr/>
          <p:nvPr/>
        </p:nvPicPr>
        <p:blipFill>
          <a:blip r:embed="rId1"/>
          <a:srcRect l="0" t="3870" r="8693" b="0"/>
          <a:stretch/>
        </p:blipFill>
        <p:spPr>
          <a:xfrm>
            <a:off x="4572000" y="3376440"/>
            <a:ext cx="4191120" cy="3310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4: Alignez les histoires par Dem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ervez le tri valeur métier/c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uvement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5: Sélectionnez les his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: gagner de l’ar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til: la Valeur Mé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Clients deviennent moins satisfaits quand ils doivent atten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ules les demandes complètement implémentées et mises en production sont pay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5: Mise en produ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ouez la carte « Mise en production » pour mettre toutes les histoires complétées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release.png"/>
          <p:cNvPicPr/>
          <p:nvPr/>
        </p:nvPicPr>
        <p:blipFill>
          <a:blip r:embed="rId1"/>
          <a:stretch/>
        </p:blipFill>
        <p:spPr>
          <a:xfrm>
            <a:off x="5943600" y="2819520"/>
            <a:ext cx="25909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5: Sélectionnez les his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élocité: 15 points de c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avez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3886200" y="47242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6: Implémen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nnez les histoires sélectionnées aux développ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alldevs"/>
          <p:cNvPicPr/>
          <p:nvPr/>
        </p:nvPicPr>
        <p:blipFill>
          <a:blip r:embed="rId1"/>
          <a:stretch/>
        </p:blipFill>
        <p:spPr>
          <a:xfrm>
            <a:off x="3048120" y="3124080"/>
            <a:ext cx="290664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story.png"/>
          <p:cNvPicPr/>
          <p:nvPr/>
        </p:nvPicPr>
        <p:blipFill>
          <a:blip r:embed="rId1"/>
          <a:stretch/>
        </p:blipFill>
        <p:spPr>
          <a:xfrm>
            <a:off x="6477120" y="3124080"/>
            <a:ext cx="2286000" cy="341964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5"/>
          <p:cNvSpPr/>
          <p:nvPr/>
        </p:nvSpPr>
        <p:spPr>
          <a:xfrm>
            <a:off x="7696080" y="586728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6: Implémen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élocité: 15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urs: indiquez les histoires «Fait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vez le plan d’it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émentez pour un maximum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15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2819520" y="476100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chateau.png"/>
          <p:cNvPicPr/>
          <p:nvPr/>
        </p:nvPicPr>
        <p:blipFill>
          <a:blip r:embed="rId1"/>
          <a:stretch/>
        </p:blipFill>
        <p:spPr>
          <a:xfrm>
            <a:off x="3200400" y="3200400"/>
            <a:ext cx="5122800" cy="3544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7: Mise à jour De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quez les histoires « Fait » sur la De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2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198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5" descr="chateau.png"/>
          <p:cNvPicPr/>
          <p:nvPr/>
        </p:nvPicPr>
        <p:blipFill>
          <a:blip r:embed="rId1"/>
          <a:stretch/>
        </p:blipFill>
        <p:spPr>
          <a:xfrm>
            <a:off x="3200400" y="3200400"/>
            <a:ext cx="5122800" cy="354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7: Mise à jour De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quez les histoires « Fait » sur la De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quez les mises e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206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9"/>
          <p:cNvGrpSpPr/>
          <p:nvPr/>
        </p:nvGrpSpPr>
        <p:grpSpPr>
          <a:xfrm>
            <a:off x="4800600" y="4965840"/>
            <a:ext cx="304920" cy="968400"/>
            <a:chOff x="4800600" y="4965840"/>
            <a:chExt cx="304920" cy="968400"/>
          </a:xfrm>
        </p:grpSpPr>
        <p:sp>
          <p:nvSpPr>
            <p:cNvPr id="211" name="Text Box 12"/>
            <p:cNvSpPr/>
            <p:nvPr/>
          </p:nvSpPr>
          <p:spPr>
            <a:xfrm>
              <a:off x="4800600" y="49658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800600" y="51944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800600" y="54212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4800600" y="564840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WordArt 17"/>
          <p:cNvSpPr txBox="1"/>
          <p:nvPr/>
        </p:nvSpPr>
        <p:spPr>
          <a:xfrm>
            <a:off x="1447920" y="41911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omptable remplit la feuille des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"/>
          <p:cNvPicPr/>
          <p:nvPr/>
        </p:nvPicPr>
        <p:blipFill>
          <a:blip r:embed="rId1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score.png"/>
          <p:cNvPicPr/>
          <p:nvPr/>
        </p:nvPicPr>
        <p:blipFill>
          <a:blip r:embed="rId2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-7 joueurs par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DSC00292"/>
          <p:cNvPicPr/>
          <p:nvPr/>
        </p:nvPicPr>
        <p:blipFill>
          <a:blip r:embed="rId1"/>
          <a:srcRect l="8219" t="17805" r="10963" b="9130"/>
          <a:stretch/>
        </p:blipFill>
        <p:spPr>
          <a:xfrm rot="21182400">
            <a:off x="609120" y="2514240"/>
            <a:ext cx="2895840" cy="196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00293"/>
          <p:cNvPicPr/>
          <p:nvPr/>
        </p:nvPicPr>
        <p:blipFill>
          <a:blip r:embed="rId2"/>
          <a:srcRect l="2497" t="9331" r="8002" b="8675"/>
          <a:stretch/>
        </p:blipFill>
        <p:spPr>
          <a:xfrm rot="687600">
            <a:off x="5257800" y="1980720"/>
            <a:ext cx="3276720" cy="22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SC00308"/>
          <p:cNvPicPr/>
          <p:nvPr/>
        </p:nvPicPr>
        <p:blipFill>
          <a:blip r:embed="rId3"/>
          <a:srcRect l="5997" t="11336" r="3504" b="10668"/>
          <a:stretch/>
        </p:blipFill>
        <p:spPr>
          <a:xfrm rot="20437200">
            <a:off x="2286000" y="3505320"/>
            <a:ext cx="39625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hoisissez un nom d’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"/>
          <p:cNvSpPr/>
          <p:nvPr/>
        </p:nvSpPr>
        <p:spPr>
          <a:xfrm>
            <a:off x="1523880" y="1447920"/>
            <a:ext cx="2590920" cy="3045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aleur Métier de toutes les Demandes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ètement implém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5"/>
          <p:cNvSpPr/>
          <p:nvPr/>
        </p:nvSpPr>
        <p:spPr>
          <a:xfrm>
            <a:off x="2952720" y="234144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venu total des toutes les Demandes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ètement implém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5"/>
          <p:cNvSpPr/>
          <p:nvPr/>
        </p:nvSpPr>
        <p:spPr>
          <a:xfrm>
            <a:off x="373392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production? O/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457200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 mise en production: tout le Revenu Potentiel depuis la dernière mise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5"/>
          <p:cNvSpPr/>
          <p:nvPr/>
        </p:nvSpPr>
        <p:spPr>
          <a:xfrm>
            <a:off x="533412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d’itération = Revenu Ré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693432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= ∑ Total d’ité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5"/>
          <p:cNvSpPr/>
          <p:nvPr/>
        </p:nvSpPr>
        <p:spPr>
          <a:xfrm>
            <a:off x="784872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9: Mise à jour de la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n mise en production : Satisfaction -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duction: Satisfaction +=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 Deman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53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Picture 3" descr=""/>
          <p:cNvPicPr/>
          <p:nvPr/>
        </p:nvPicPr>
        <p:blipFill>
          <a:blip r:embed="rId6"/>
          <a:stretch/>
        </p:blipFill>
        <p:spPr>
          <a:xfrm>
            <a:off x="9907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9"/>
          <a:stretch/>
        </p:blipFill>
        <p:spPr>
          <a:xfrm>
            <a:off x="2451240" y="504180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0"/>
          <a:stretch/>
        </p:blipFill>
        <p:spPr>
          <a:xfrm>
            <a:off x="2070000" y="504180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11"/>
          <a:stretch/>
        </p:blipFill>
        <p:spPr>
          <a:xfrm>
            <a:off x="548640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12"/>
          <a:stretch/>
        </p:blipFill>
        <p:spPr>
          <a:xfrm>
            <a:off x="510552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13"/>
          <a:stretch/>
        </p:blipFill>
        <p:spPr>
          <a:xfrm>
            <a:off x="5867280" y="502452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14"/>
          <a:stretch/>
        </p:blipFill>
        <p:spPr>
          <a:xfrm>
            <a:off x="70102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15"/>
          <a:stretch/>
        </p:blipFill>
        <p:spPr>
          <a:xfrm>
            <a:off x="66294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16"/>
          <a:stretch/>
        </p:blipFill>
        <p:spPr>
          <a:xfrm>
            <a:off x="73915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17"/>
          <a:stretch/>
        </p:blipFill>
        <p:spPr>
          <a:xfrm>
            <a:off x="7010280" y="541008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18"/>
          <a:stretch/>
        </p:blipFill>
        <p:spPr>
          <a:xfrm>
            <a:off x="662940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19"/>
          <a:stretch/>
        </p:blipFill>
        <p:spPr>
          <a:xfrm>
            <a:off x="739152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0"/>
          <a:stretch/>
        </p:blipFill>
        <p:spPr>
          <a:xfrm>
            <a:off x="4038480" y="5029200"/>
            <a:ext cx="10670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onus de V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chocolat pour chaque responsable de compte qui a mis une Demande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76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 de l’itér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-7 joueurs par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 représentent chacun un des 5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100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ér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tér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Demandes en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imez la Valeur Métier des Demandes par compa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ariation de la Vélo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mélioration du processus de mise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tér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1: Estimez la Valeur Mé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2: Distribuez la Valeur Métier sur les Histo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3: Triez les Histoires par Valeur Métier/Coû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4: Alignez les Histoires par Dem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5: Sélectionnez  les His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6: Implémen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7: Mise à jour des Dem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9: Mise à jour de la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85800" y="4700520"/>
            <a:ext cx="7543800" cy="0"/>
          </a:xfrm>
          <a:prstGeom prst="line">
            <a:avLst/>
          </a:prstGeom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5943600" y="4243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0101"/>
                </a:solidFill>
                <a:latin typeface="Arial"/>
              </a:rPr>
              <a:t>Attendez 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12"/>
          <p:cNvSpPr txBox="1"/>
          <p:nvPr/>
        </p:nvSpPr>
        <p:spPr>
          <a:xfrm>
            <a:off x="6553080" y="3352680"/>
            <a:ext cx="243864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ée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tour sur Investi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tour sur Investi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5"/>
          <p:cNvSpPr/>
          <p:nvPr/>
        </p:nvSpPr>
        <p:spPr>
          <a:xfrm rot="20940600">
            <a:off x="6299280" y="2584080"/>
            <a:ext cx="5331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4"/>
          <p:cNvSpPr/>
          <p:nvPr/>
        </p:nvSpPr>
        <p:spPr>
          <a:xfrm flipH="1">
            <a:off x="6858000" y="2514600"/>
            <a:ext cx="129528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OI = 10% du Total au tour précédent, arrondi à la 100€ inférieu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9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tour sur Investi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5"/>
          <p:cNvSpPr/>
          <p:nvPr/>
        </p:nvSpPr>
        <p:spPr>
          <a:xfrm rot="20940600">
            <a:off x="7129440" y="2575080"/>
            <a:ext cx="53352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4"/>
          <p:cNvSpPr/>
          <p:nvPr/>
        </p:nvSpPr>
        <p:spPr>
          <a:xfrm flipH="1">
            <a:off x="6476760" y="2514600"/>
            <a:ext cx="1600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tal d’itération = Revenu Réel + Retour sur Investisseme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6705720" y="281952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trospective Itérations 1 e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ndup Rét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2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10" name="Picture 13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4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15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16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7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érations 3 e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térations 3 e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1: Estimez la Valeur Métier 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2: Distribuez la Valeur Métier sur les Histo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3: Triez les Histoires par Valeur Métier/Coû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4: Alignez les Histoires par Dem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5: Sélectionnez  les His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6: Implémen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7: Mise à jour des Dem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9: Mise à jour de la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6477120" y="6858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ée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trospective Itérations 3 e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trospective Stand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24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-7 joueurs par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quipe de développ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 la vélo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émente les his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 e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lldevs"/>
          <p:cNvPicPr/>
          <p:nvPr/>
        </p:nvPicPr>
        <p:blipFill>
          <a:blip r:embed="rId1"/>
          <a:stretch/>
        </p:blipFill>
        <p:spPr>
          <a:xfrm>
            <a:off x="5562720" y="3505320"/>
            <a:ext cx="29066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érations 5 e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térations 5 an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1: Estimez la Valeur Mé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2: Sélectionnez  les His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3: Implémen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4: Mise à jour des Dem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5: Calculez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6: Mise à jour de la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5762520" y="42274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6629400" y="6858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ée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trospective Itérations 5 e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trospective Stand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38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Résumé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léchargez sur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ttp://www.xp.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ir l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© Vera Peeters et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éléchargez sur 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creative commons.png"/>
          <p:cNvPicPr/>
          <p:nvPr/>
        </p:nvPicPr>
        <p:blipFill>
          <a:blip r:embed="rId1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-7 joueurs par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quipe de développ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 à jour les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 le respect des rè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ccountant"/>
          <p:cNvPicPr/>
          <p:nvPr/>
        </p:nvPicPr>
        <p:blipFill>
          <a:blip r:embed="rId1"/>
          <a:stretch/>
        </p:blipFill>
        <p:spPr>
          <a:xfrm>
            <a:off x="5715000" y="342900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ages des personnages sur la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oisissez votre 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but du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Gagner de l’arg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chateau.png"/>
          <p:cNvPicPr/>
          <p:nvPr/>
        </p:nvPicPr>
        <p:blipFill>
          <a:blip r:embed="rId1"/>
          <a:stretch/>
        </p:blipFill>
        <p:spPr>
          <a:xfrm>
            <a:off x="3792600" y="3200400"/>
            <a:ext cx="5122800" cy="3544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ttre des demandes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tes les histoires sont implémen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mises e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ment gagner de l’argen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5011560" y="4978440"/>
            <a:ext cx="304560" cy="1195200"/>
            <a:chOff x="5011560" y="4978440"/>
            <a:chExt cx="304560" cy="1195200"/>
          </a:xfrm>
        </p:grpSpPr>
        <p:sp>
          <p:nvSpPr>
            <p:cNvPr id="120" name="Text Box 5"/>
            <p:cNvSpPr/>
            <p:nvPr/>
          </p:nvSpPr>
          <p:spPr>
            <a:xfrm>
              <a:off x="501156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501156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501156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501156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5011560" y="58878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5392800" y="4965840"/>
            <a:ext cx="304560" cy="1195200"/>
            <a:chOff x="5392800" y="4965840"/>
            <a:chExt cx="304560" cy="1195200"/>
          </a:xfrm>
        </p:grpSpPr>
        <p:sp>
          <p:nvSpPr>
            <p:cNvPr id="126" name="Text Box 13"/>
            <p:cNvSpPr/>
            <p:nvPr/>
          </p:nvSpPr>
          <p:spPr>
            <a:xfrm>
              <a:off x="5392800" y="4965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4"/>
            <p:cNvSpPr/>
            <p:nvPr/>
          </p:nvSpPr>
          <p:spPr>
            <a:xfrm>
              <a:off x="5392800" y="5194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5392800" y="54212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5392800" y="56484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5392800" y="58752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18"/>
          <p:cNvSpPr/>
          <p:nvPr/>
        </p:nvSpPr>
        <p:spPr>
          <a:xfrm>
            <a:off x="4452840" y="4076640"/>
            <a:ext cx="101592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scal Van Cauwenberghe</cp:lastModifiedBy>
  <dcterms:modified xsi:type="dcterms:W3CDTF">2009-05-26T10:49:10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