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5EB50EA-C2DC-43E3-8D2F-EC4DAF735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15C1970-A842-476C-9C4B-CF6E31458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E93B741-2A91-4C4B-AB14-F165FF97B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6BD1F79-AD46-4E7E-A834-EFE43F223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1A43378-7D7D-4E55-BEE4-612E462A2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C6F2EC4-A609-4431-9930-AC9270B52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53E0D7D-2016-4DE9-8279-D60B594C6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34C1E50-917F-482A-A91F-F82B7B2E5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D8EDFA-6D3D-411A-8D72-6FFCADDBF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26421C-E793-479C-AD26-EBC30619D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F9A3EE5-EBE8-4AD9-9E8E-EF4CDCB72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5E4814A-B839-46C3-88E8-A31FFEE0E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1DFAA22-52AC-4E68-8A6F-C3C64F9DB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4F26237-99EB-4FF3-AFAF-14AAAB5FA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EEEB06C-7272-4F31-984D-A7240221C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A6213EA-B667-4D87-8D5F-E043060E7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8EBADD3-094F-4EF3-A425-45343FDD8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D465E73-2B58-46DC-90E6-BD2EE88E7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989562A-3D8D-40C6-8021-7567DB5E1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61EBEEE-523C-43DC-9483-920AFE565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9701FA7-1AE7-4DBF-9B2A-3C831999B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11EAC9-02D2-4B7E-B9D0-CF0B88442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9A44E53-2E45-47E5-BF09-D6941FDD2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16974D5-9062-46C1-A1EE-8872126A0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06A2A88-2A50-4CF5-895F-09F6B8729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CA9A673-1326-4FB8-8AB3-50AB56F0CB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D3468E4-CB4A-4DF0-A925-9E56A39FC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7DD52AF-4C02-4A80-9790-3D7CF3AE8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3AC9E34-FA86-4D5D-A2E4-455A65C7B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D996148-A328-41A8-BB46-982C2E051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458E207-18F2-4625-AFED-CC3BF80E0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61B499-6F61-4376-85CD-014E6304A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FEEEC05-5152-4193-AB77-5DD3DDF93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F1ACA17-AA73-4B18-88D1-B74B44310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C8F93D7-75FF-42E9-959E-F9CDA3799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5939CB2-BD31-4C9C-B73E-A156F0A69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00AFD41-0C77-450C-926F-41510F7D5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36D25D6-1873-42CC-9663-763E23B85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3A49B5-A393-457C-B6C0-C92718F6D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409FA4-2AF7-4DCB-BB2A-DB0B9EB7E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A4DBD1-DB39-4911-8F76-332E0868C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0BFB43F-743E-4B5E-9B59-F70C4332B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5F3-6173-44F2-8168-ED4407D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830-4AFB-4F48-883D-B532788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4E7-98C8-4EBC-802C-2D7FD15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564-FAC6-4D22-BA98-CD40B972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828-EE71-4A04-A237-A324F44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9D3-0772-4330-8DA3-D3850694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E85-5DF3-4D0A-8739-0D8CE346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1AE-6F1F-40D9-875C-246783F2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079-8335-4613-966E-6E6CA43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014-7BD6-4C37-B722-9B540FB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C01-6822-40E6-8D0D-3F7DB76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F08-CBF1-47CD-96AD-F8B0E35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AEE-261D-4507-B368-7AB5E1013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p.be/" TargetMode="External"/><Relationship Id="rId2" Type="http://schemas.openxmlformats.org/officeDocument/2006/relationships/hyperlink" Target="http://agilizar.e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image" Target="../media/image21.wmf"/><Relationship Id="rId16" Type="http://schemas.openxmlformats.org/officeDocument/2006/relationships/image" Target="../media/image21.wmf"/><Relationship Id="rId17" Type="http://schemas.openxmlformats.org/officeDocument/2006/relationships/image" Target="../media/image21.wmf"/><Relationship Id="rId18" Type="http://schemas.openxmlformats.org/officeDocument/2006/relationships/image" Target="../media/image21.wmf"/><Relationship Id="rId19" Type="http://schemas.openxmlformats.org/officeDocument/2006/relationships/image" Target="../media/image21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xp.be/" TargetMode="External"/><Relationship Id="rId2" Type="http://schemas.openxmlformats.org/officeDocument/2006/relationships/hyperlink" Target="http://agilizar.e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ra Pe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0199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raducci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ón al español: Juan Gutiérrez Plaza –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gilizar.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| Agile-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3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ic13.jpg"/>
          <p:cNvPicPr/>
          <p:nvPr/>
        </p:nvPicPr>
        <p:blipFill>
          <a:blip r:embed="rId1"/>
          <a:stretch/>
        </p:blipFill>
        <p:spPr>
          <a:xfrm>
            <a:off x="6095880" y="2286000"/>
            <a:ext cx="29307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ndo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aciendo feliz a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100 € por punto de feli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uando la felicidad llega a 0,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¡El cliente se 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¿Cómo ganamos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994360" y="5029200"/>
            <a:ext cx="314964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ó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eticiónes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pic1.jpg"/>
          <p:cNvPicPr/>
          <p:nvPr/>
        </p:nvPicPr>
        <p:blipFill>
          <a:blip r:embed="rId1"/>
          <a:stretch/>
        </p:blipFill>
        <p:spPr>
          <a:xfrm>
            <a:off x="4572000" y="4033800"/>
            <a:ext cx="4451400" cy="2824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uando todas las historias son implementadas y entreg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ngreso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: lo que g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lo que aumenta la felicidad del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5257800" y="4495680"/>
            <a:ext cx="76212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etición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6019920" y="4495680"/>
            <a:ext cx="76356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pic1.jpg"/>
          <p:cNvPicPr/>
          <p:nvPr/>
        </p:nvPicPr>
        <p:blipFill>
          <a:blip r:embed="rId1"/>
          <a:stretch/>
        </p:blipFill>
        <p:spPr>
          <a:xfrm>
            <a:off x="4495680" y="3886200"/>
            <a:ext cx="4496040" cy="2851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rdenar por ingresos y entonces asignar el Valor de Negocio a la Petición de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"/>
          <p:cNvSpPr/>
          <p:nvPr/>
        </p:nvSpPr>
        <p:spPr>
          <a:xfrm>
            <a:off x="6629400" y="4267080"/>
            <a:ext cx="1447920" cy="7621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1: Asignar Valor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76212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imera iteració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alor de Negocio=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895480" y="2895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arjetas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2.jpg"/>
          <p:cNvPicPr/>
          <p:nvPr/>
        </p:nvPicPr>
        <p:blipFill>
          <a:blip r:embed="rId1"/>
          <a:stretch/>
        </p:blipFill>
        <p:spPr>
          <a:xfrm>
            <a:off x="6172200" y="2590920"/>
            <a:ext cx="267012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arjetas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e: estimado por 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pic2.jpg"/>
          <p:cNvPicPr/>
          <p:nvPr/>
        </p:nvPicPr>
        <p:blipFill>
          <a:blip r:embed="rId1"/>
          <a:stretch/>
        </p:blipFill>
        <p:spPr>
          <a:xfrm>
            <a:off x="6705720" y="320040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2: Distribuir el Valor de Negocio entre las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or de Negocio: </a:t>
            </a:r>
            <a:br>
              <a:rPr sz="32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VN(historias) == VN (peti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320" y="43876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imera iteració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N(historia) = VN(petición) / #his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001000" y="5562720"/>
            <a:ext cx="99072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895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pic2.jpg"/>
          <p:cNvPicPr/>
          <p:nvPr/>
        </p:nvPicPr>
        <p:blipFill>
          <a:blip r:embed="rId1"/>
          <a:stretch/>
        </p:blipFill>
        <p:spPr>
          <a:xfrm>
            <a:off x="6477120" y="312408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3: Ordena las historias por Valor de Negocio/C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alcular el Valor de Negocio / 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7696080" y="57150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3: Ordena las historias por Valor de Negocio/C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600200"/>
          <a:ext cx="8839440" cy="4664160"/>
        </p:xfrm>
        <a:graphic>
          <a:graphicData uri="http://schemas.openxmlformats.org/drawingml/2006/table">
            <a:tbl>
              <a:tblPr/>
              <a:tblGrid>
                <a:gridCol w="1676520"/>
                <a:gridCol w="990720"/>
                <a:gridCol w="617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 equipos y repartir el mate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ar las reglas y jugar la itera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 iteració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a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s dos primeras iter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s iteraciones 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a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s iteraciones 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s iteraciones 5 y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i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ón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inal y 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4: Alinéa las historias por Petición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ntén el orden del valor/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slízalas horizontalmente por petició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bjetivo: ganar din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erramienta: maximizar el Valor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os clientes son menos felices cuanto más tienen que espe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ólo las peticiones completadas y entregadas hacen ganar diner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¿Entreg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ra entregar peticiones completas usa la tarjeta de historia «Salida a Mercado (Entrega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pic14.jpg"/>
          <p:cNvPicPr/>
          <p:nvPr/>
        </p:nvPicPr>
        <p:blipFill>
          <a:blip r:embed="rId1"/>
          <a:stretch/>
        </p:blipFill>
        <p:spPr>
          <a:xfrm>
            <a:off x="3429000" y="274320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dad: 15 puntos de his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200400" y="33526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 todas la tarjetas seleccionadas al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pic2.jpg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36892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8153280" y="4876920"/>
            <a:ext cx="99072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dad: 15 puntos de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 de Desarrollo: marca las historias «Terminadas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gue el plan de 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trega hasta un máximo de 15 puntos de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3124080" y="4800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pic1.jpg"/>
          <p:cNvPicPr/>
          <p:nvPr/>
        </p:nvPicPr>
        <p:blipFill>
          <a:blip r:embed="rId1"/>
          <a:stretch/>
        </p:blipFill>
        <p:spPr>
          <a:xfrm>
            <a:off x="3352680" y="3429000"/>
            <a:ext cx="5105520" cy="32385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7: Actualizar las Peticiones de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termi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pic1.jpg"/>
          <p:cNvPicPr/>
          <p:nvPr/>
        </p:nvPicPr>
        <p:blipFill>
          <a:blip r:embed="rId1"/>
          <a:stretch/>
        </p:blipFill>
        <p:spPr>
          <a:xfrm>
            <a:off x="3276720" y="3352680"/>
            <a:ext cx="5181480" cy="3353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7: Actualizar las Peticiones de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he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entr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4343400" y="4952880"/>
            <a:ext cx="304560" cy="968400"/>
            <a:chOff x="4343400" y="495288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343400" y="49528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343400" y="5181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343400" y="5408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343400" y="5635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table: rellena la hoja de ite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pic15.jpg"/>
          <p:cNvPicPr/>
          <p:nvPr/>
        </p:nvPicPr>
        <p:blipFill>
          <a:blip r:embed="rId1"/>
          <a:stretch/>
        </p:blipFill>
        <p:spPr>
          <a:xfrm>
            <a:off x="152280" y="1481040"/>
            <a:ext cx="89917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2029800">
            <a:off x="5333760" y="2438280"/>
            <a:ext cx="327636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pic15.jp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3700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cidir un nombre para 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pic15.jpg"/>
          <p:cNvPicPr/>
          <p:nvPr/>
        </p:nvPicPr>
        <p:blipFill>
          <a:blip r:embed="rId1"/>
          <a:stretch/>
        </p:blipFill>
        <p:spPr>
          <a:xfrm>
            <a:off x="609480" y="1371600"/>
            <a:ext cx="8534520" cy="3635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or de Negocio de todas las peticion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"/>
          <p:cNvSpPr/>
          <p:nvPr/>
        </p:nvSpPr>
        <p:spPr>
          <a:xfrm>
            <a:off x="29718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pic15.jpg"/>
          <p:cNvPicPr/>
          <p:nvPr/>
        </p:nvPicPr>
        <p:blipFill>
          <a:blip r:embed="rId1"/>
          <a:stretch/>
        </p:blipFill>
        <p:spPr>
          <a:xfrm>
            <a:off x="533520" y="1371600"/>
            <a:ext cx="8458200" cy="3602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533520" y="53038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greso total de todas las peticion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37339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pic15.jpg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343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¿Se ha entregado? S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"/>
          <p:cNvSpPr/>
          <p:nvPr/>
        </p:nvSpPr>
        <p:spPr>
          <a:xfrm>
            <a:off x="45720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pic15.jpg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017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 se ha sacado al mercado: todo el valor potencial no entregado anterior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otro caso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5"/>
          <p:cNvSpPr/>
          <p:nvPr/>
        </p:nvSpPr>
        <p:spPr>
          <a:xfrm>
            <a:off x="53341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pic15.jpg"/>
          <p:cNvPicPr/>
          <p:nvPr/>
        </p:nvPicPr>
        <p:blipFill>
          <a:blip r:embed="rId1"/>
          <a:stretch/>
        </p:blipFill>
        <p:spPr>
          <a:xfrm>
            <a:off x="685800" y="1371600"/>
            <a:ext cx="8077320" cy="3440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Iteración = Valor Ga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"/>
          <p:cNvSpPr/>
          <p:nvPr/>
        </p:nvSpPr>
        <p:spPr>
          <a:xfrm>
            <a:off x="69343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c15.jpg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3473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= ∑ Total It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8487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9: Actualizar el nivel de felicidad de los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o se entrega: La felicidad disminuye e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e entrega: La felicidad aumenta tantas veces com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s peticiones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56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onificación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a chocolatina para cada comercial que ha entregado una petición hecha por su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79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Fin de la Itera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5 comerciales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uevas tarjetas de petición de cliente y de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stimar el Valor de Negocio por 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riación en la velocidad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joras en l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8001000" y="3809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624852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Esperar aq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2"/>
          <p:cNvSpPr txBox="1"/>
          <p:nvPr/>
        </p:nvSpPr>
        <p:spPr>
          <a:xfrm>
            <a:off x="6291360" y="28195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"/>
          <p:cNvPicPr/>
          <p:nvPr/>
        </p:nvPicPr>
        <p:blipFill>
          <a:blip r:embed="rId1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pic15.jpg"/>
          <p:cNvPicPr/>
          <p:nvPr/>
        </p:nvPicPr>
        <p:blipFill>
          <a:blip r:embed="rId2"/>
          <a:stretch/>
        </p:blipFill>
        <p:spPr>
          <a:xfrm>
            <a:off x="228600" y="1676520"/>
            <a:ext cx="8763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pic15.jpg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34401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5"/>
          <p:cNvSpPr/>
          <p:nvPr/>
        </p:nvSpPr>
        <p:spPr>
          <a:xfrm rot="20940600">
            <a:off x="6194520" y="286668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 flipH="1">
            <a:off x="6781320" y="2819520"/>
            <a:ext cx="129564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I = 10% del Total anterior, múltiplo de 100€  redondeado a la baj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9" descr="pic15.jpg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3473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 (RO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 rot="20940600">
            <a:off x="6118200" y="286704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H="1">
            <a:off x="6552720" y="274320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= Valor Ganado + RO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629400" y="304812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1 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14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ones 3 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ones 3 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3 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 que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termina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mplementa las his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struye las entr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ones 5 y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ones 5 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5 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42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sum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sponible e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 n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457200" y="5867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p.b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ucción: Juan Gutiérrez Plaza –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gilizar.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| Agile-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reative commons.png"/>
          <p:cNvPicPr/>
          <p:nvPr/>
        </p:nvPicPr>
        <p:blipFill>
          <a:blip r:embed="rId3"/>
          <a:stretch/>
        </p:blipFill>
        <p:spPr>
          <a:xfrm>
            <a:off x="7924680" y="632448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 que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leva la pun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erifica las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n todas las cartas de personajes sobre l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33526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bjetivo del j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Ganar din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pic1.jpg"/>
          <p:cNvPicPr/>
          <p:nvPr/>
        </p:nvPicPr>
        <p:blipFill>
          <a:blip r:embed="rId1"/>
          <a:stretch/>
        </p:blipFill>
        <p:spPr>
          <a:xfrm>
            <a:off x="3809880" y="3352680"/>
            <a:ext cx="5029200" cy="3189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¿Cómo se gana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ndo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das las historias son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Y entr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800600" y="4876920"/>
            <a:ext cx="304560" cy="1195200"/>
            <a:chOff x="4800600" y="487692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4800600" y="487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800600" y="51055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800600" y="53323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800600" y="5559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4800600" y="5786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5334120" y="4876920"/>
            <a:ext cx="304560" cy="1195200"/>
            <a:chOff x="5334120" y="487692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5334120" y="487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5334120" y="51055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5334120" y="53323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5334120" y="5559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5334120" y="5786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4419720" y="3886200"/>
            <a:ext cx="101592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tiju</cp:lastModifiedBy>
  <dcterms:modified xsi:type="dcterms:W3CDTF">2010-01-20T15:31:44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