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14120" y="725040"/>
            <a:ext cx="483084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80714A2-F616-45F9-AA1D-BF9901A8A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AED9B35-A461-427F-A96B-9BA0CE5E1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5CE1A0C-5923-48FE-BA06-9A91F4638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AC44A4F-C57C-4FF3-9721-653CCBE8C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8861284-0086-4909-8561-49138E61D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do: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client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AC534E9-4516-4C81-8D4C-6AD07E6D4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E334165-6350-4922-A631-0A8F761B7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400352-AC1A-4773-AA1D-6C9021911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icture; client, client request,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E8688E-02EF-4563-ACA1-4E11FEFC4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4C5EC32-5150-4472-9D4A-C0A5C4287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1A99714-7695-4129-9B5F-8F8EA7ABE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D0780E7-8FFC-44DD-BF9F-CFFCFDF2F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11FA3DE-6B51-4B65-B27C-D0A8ACDF0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C207631-8FE9-4403-9547-A228C99AA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9B10F94-BF50-496F-87D5-B2AACD415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34719CB-72FC-4F74-A9AB-77D1FCB83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00C2D2D-8528-44D1-A185-96FAA5FE9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2D54DFB-AB62-434A-B2A5-F0E80F2B9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0C6B9F8-CDB3-40B9-8166-C3EF2E07A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25F5F99-A911-4A7F-AB9F-3A4C874F3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9C7FAAE-FD8A-4189-B55D-D9EDD377E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1E207FF-7AF8-47D0-BDA4-8BC207570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BC55F36-4E56-4AC0-A032-503CEB77A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9ECE759-A9DD-4A53-A415-A87CBA1FD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ED67734-1149-49F1-982C-C1D48521F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8F34678-6B12-43D1-A239-6256EF427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74C0BBD-8669-4B4E-BAC9-BEC68B68E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29D7F9A-7C40-402B-B5FF-B5A4490A5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09F1704-7E1A-4374-BE86-D6FBF5011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0015C4E-A688-4529-B748-5B677EBBD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387EC0D-BD23-4BB8-B2F6-EB0B966AE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80461FE-0F26-47C1-ABC8-D1F414C28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8745A3-60F7-4465-8818-6760E048A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FD2E548-4C1A-469E-BC75-6E3892FCD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939253-C3E1-4769-AB25-D19EC2FD47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590195C-C0D6-49A9-8AEE-DE203EBB5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D1DAEBC-43FD-4829-BD9B-DC016E586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DC8A4AA-C633-434E-84E5-085E98753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EB243F5-B206-47A9-86D8-BD2CF7E1B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75ECE88-07E2-4F10-BE58-EBA66E0E5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persona cards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FE93035-F1CD-4E8D-B570-E0A6476AA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7539D51-B381-4465-9048-34DDA30D7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154-5CDA-41D8-A1D5-47308F2D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04C-B8DA-4951-8670-DBB69F7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C6B-9D39-4840-A508-190B0D86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385-53A3-41DC-BDA5-2F8D1DCA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C0C-9CF5-4BCA-B2A4-04E6BB74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C83-1FA5-4315-900D-2960DE9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2FB-2F7E-458B-BB87-B842027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E54-0252-494F-9CF6-3C06F081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90F-1407-425E-B7BF-66C24EBB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A7D-FD11-4C96-B58C-80FB0EA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C45-7F03-4966-8E71-893F5EF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F38-E98B-4D67-8AF9-5E3DB3B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672-2E89-44D4-932E-51B7661789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ra Pe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scal Van Cauwenber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rtia 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wnload from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ke clients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100 € per happiness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hen happiness is 0,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Client leave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70316" t="20670" r="4688" b="15334"/>
          <a:stretch/>
        </p:blipFill>
        <p:spPr>
          <a:xfrm>
            <a:off x="5765760" y="1676520"/>
            <a:ext cx="314964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ow can you earn m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5765760" y="4800600"/>
            <a:ext cx="314964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lient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3962520" y="3556080"/>
            <a:ext cx="4724280" cy="3149640"/>
          </a:xfrm>
          <a:prstGeom prst="rect">
            <a:avLst/>
          </a:prstGeom>
          <a:ln w="0">
            <a:noFill/>
          </a:ln>
        </p:spPr>
      </p:pic>
      <p:sp>
        <p:nvSpPr>
          <p:cNvPr id="142" name="Freeform 18"/>
          <p:cNvSpPr/>
          <p:nvPr/>
        </p:nvSpPr>
        <p:spPr>
          <a:xfrm>
            <a:off x="4800600" y="4343400"/>
            <a:ext cx="762120" cy="517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lient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hen all stories are implemented and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ncom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: how much you 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client happiness increase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is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5486400" y="4343400"/>
            <a:ext cx="76356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3962520" y="3556080"/>
            <a:ext cx="4724280" cy="3149640"/>
          </a:xfrm>
          <a:prstGeom prst="rect">
            <a:avLst/>
          </a:prstGeom>
          <a:ln w="0">
            <a:noFill/>
          </a:ln>
        </p:spPr>
      </p:pic>
      <p:sp>
        <p:nvSpPr>
          <p:cNvPr id="147" name="Freeform 9"/>
          <p:cNvSpPr/>
          <p:nvPr/>
        </p:nvSpPr>
        <p:spPr>
          <a:xfrm>
            <a:off x="6248520" y="4191120"/>
            <a:ext cx="1447560" cy="7617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1: Assign Business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ort by Income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ssign Business Value to Client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-1066680" y="4495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First ite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 Value =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ory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ory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: estimated by develop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696080" y="54864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usiness Value: </a:t>
            </a:r>
            <a:br>
              <a:rPr sz="32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BV(stories) == BV (reques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320" y="43876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First itera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BV(Story) = BV(request) / #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63" name="Freeform 9"/>
          <p:cNvSpPr/>
          <p:nvPr/>
        </p:nvSpPr>
        <p:spPr>
          <a:xfrm>
            <a:off x="7710480" y="533088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3: Sort stories by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/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alculate Business Value /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7"/>
          <p:cNvSpPr/>
          <p:nvPr/>
        </p:nvSpPr>
        <p:spPr>
          <a:xfrm>
            <a:off x="7696080" y="57150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Step-1-Prioritise-Stories-By-BV-Divided-By-Cost"/>
          <p:cNvPicPr/>
          <p:nvPr/>
        </p:nvPicPr>
        <p:blipFill>
          <a:blip r:embed="rId1"/>
          <a:srcRect l="0" t="11109" r="0" b="0"/>
          <a:stretch/>
        </p:blipFill>
        <p:spPr>
          <a:xfrm>
            <a:off x="2666880" y="18288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3: Sort stories by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/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br>
              <a:rPr sz="4000"/>
            </a:b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1488960"/>
                <a:gridCol w="1220760"/>
                <a:gridCol w="551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e teams and hand out mate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 1 and explain r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rief first two it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s 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rief iterations 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y iterations 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debrief and conclus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Step-2-Sort-Stories-By-Theme"/>
          <p:cNvPicPr/>
          <p:nvPr/>
        </p:nvPicPr>
        <p:blipFill>
          <a:blip r:embed="rId1"/>
          <a:srcRect l="0" t="3870" r="8693" b="0"/>
          <a:stretch/>
        </p:blipFill>
        <p:spPr>
          <a:xfrm>
            <a:off x="4572000" y="3376440"/>
            <a:ext cx="4191120" cy="331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Keep value/cost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lide horizontally per reque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Goal: earn mo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ol: maximise business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lients become less happy the longer they have to wa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nly completed and released requests earn mo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5: Do we re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 release completed requests play the «Release» Story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rcRect l="68751" t="18667" r="5467" b="14666"/>
          <a:stretch/>
        </p:blipFill>
        <p:spPr>
          <a:xfrm>
            <a:off x="2819520" y="2743200"/>
            <a:ext cx="25905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ty: 15 story poi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886200" y="47242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and over all selected cards to the Development team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lldevs"/>
          <p:cNvPicPr/>
          <p:nvPr/>
        </p:nvPicPr>
        <p:blipFill>
          <a:blip r:embed="rId1"/>
          <a:stretch/>
        </p:blipFill>
        <p:spPr>
          <a:xfrm>
            <a:off x="3048120" y="3124080"/>
            <a:ext cx="29066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rcRect l="7032" t="19335" r="68751" b="15334"/>
          <a:stretch/>
        </p:blipFill>
        <p:spPr>
          <a:xfrm>
            <a:off x="6400800" y="2895480"/>
            <a:ext cx="236232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5"/>
          <p:cNvSpPr/>
          <p:nvPr/>
        </p:nvSpPr>
        <p:spPr>
          <a:xfrm>
            <a:off x="7696080" y="592452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ty: 15 stor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ment Team: mark stories «Don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ollow the iter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liver up to a maximum 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of 15 stor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2819520" y="434340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eck off Done stories on Reques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2971800" y="312408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2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198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eck off Done stories on Reques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heck off released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2971800" y="312408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8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206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4800600" y="4965840"/>
            <a:ext cx="304920" cy="968400"/>
            <a:chOff x="4800600" y="4965840"/>
            <a:chExt cx="304920" cy="968400"/>
          </a:xfrm>
        </p:grpSpPr>
        <p:sp>
          <p:nvSpPr>
            <p:cNvPr id="211" name="Text Box 12"/>
            <p:cNvSpPr/>
            <p:nvPr/>
          </p:nvSpPr>
          <p:spPr>
            <a:xfrm>
              <a:off x="4800600" y="49658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800600" y="51944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800600" y="54212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4800600" y="564840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WordArt 17"/>
          <p:cNvSpPr txBox="1"/>
          <p:nvPr/>
        </p:nvSpPr>
        <p:spPr>
          <a:xfrm>
            <a:off x="1447920" y="41911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ccountant: fill in Iteration Sh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SC00292"/>
          <p:cNvPicPr/>
          <p:nvPr/>
        </p:nvPicPr>
        <p:blipFill>
          <a:blip r:embed="rId1"/>
          <a:srcRect l="8219" t="17805" r="10963" b="9130"/>
          <a:stretch/>
        </p:blipFill>
        <p:spPr>
          <a:xfrm rot="21182400">
            <a:off x="609120" y="2514240"/>
            <a:ext cx="2895840" cy="196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0293"/>
          <p:cNvPicPr/>
          <p:nvPr/>
        </p:nvPicPr>
        <p:blipFill>
          <a:blip r:embed="rId2"/>
          <a:srcRect l="2497" t="9331" r="8002" b="8675"/>
          <a:stretch/>
        </p:blipFill>
        <p:spPr>
          <a:xfrm rot="687600">
            <a:off x="5257800" y="1980720"/>
            <a:ext cx="32767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SC00308"/>
          <p:cNvPicPr/>
          <p:nvPr/>
        </p:nvPicPr>
        <p:blipFill>
          <a:blip r:embed="rId3"/>
          <a:srcRect l="5997" t="11336" r="3504" b="10668"/>
          <a:stretch/>
        </p:blipFill>
        <p:spPr>
          <a:xfrm rot="20437200">
            <a:off x="2286000" y="3505320"/>
            <a:ext cx="3962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cide on Team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"/>
          <p:cNvSpPr/>
          <p:nvPr/>
        </p:nvSpPr>
        <p:spPr>
          <a:xfrm>
            <a:off x="1523880" y="1447920"/>
            <a:ext cx="2590920" cy="30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usiness Value of all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5"/>
          <p:cNvSpPr/>
          <p:nvPr/>
        </p:nvSpPr>
        <p:spPr>
          <a:xfrm>
            <a:off x="29718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income of all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ed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5"/>
          <p:cNvSpPr/>
          <p:nvPr/>
        </p:nvSpPr>
        <p:spPr>
          <a:xfrm>
            <a:off x="37339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id you release? Y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45720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f released: all unreleased Pot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lse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5"/>
          <p:cNvSpPr/>
          <p:nvPr/>
        </p:nvSpPr>
        <p:spPr>
          <a:xfrm>
            <a:off x="53341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 Total = Earn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"/>
          <p:cNvSpPr/>
          <p:nvPr/>
        </p:nvSpPr>
        <p:spPr>
          <a:xfrm>
            <a:off x="69343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24760" cy="322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unning Total = ∑ Iteration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5"/>
          <p:cNvSpPr/>
          <p:nvPr/>
        </p:nvSpPr>
        <p:spPr>
          <a:xfrm>
            <a:off x="78487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ep 9: Update each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Client's Happ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o release : Happiness -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d   : Happiness += Reques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6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Picture 3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9"/>
          <a:stretch/>
        </p:blipFill>
        <p:spPr>
          <a:xfrm>
            <a:off x="2451240" y="504180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0"/>
          <a:stretch/>
        </p:blipFill>
        <p:spPr>
          <a:xfrm>
            <a:off x="2070000" y="504180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1"/>
          <a:stretch/>
        </p:blipFill>
        <p:spPr>
          <a:xfrm>
            <a:off x="548640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12"/>
          <a:stretch/>
        </p:blipFill>
        <p:spPr>
          <a:xfrm>
            <a:off x="510552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13"/>
          <a:stretch/>
        </p:blipFill>
        <p:spPr>
          <a:xfrm>
            <a:off x="5867280" y="502452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14"/>
          <a:stretch/>
        </p:blipFill>
        <p:spPr>
          <a:xfrm>
            <a:off x="70102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15"/>
          <a:stretch/>
        </p:blipFill>
        <p:spPr>
          <a:xfrm>
            <a:off x="66294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16"/>
          <a:stretch/>
        </p:blipFill>
        <p:spPr>
          <a:xfrm>
            <a:off x="73915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17"/>
          <a:stretch/>
        </p:blipFill>
        <p:spPr>
          <a:xfrm>
            <a:off x="7010280" y="541008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18"/>
          <a:stretch/>
        </p:blipFill>
        <p:spPr>
          <a:xfrm>
            <a:off x="662940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19"/>
          <a:stretch/>
        </p:blipFill>
        <p:spPr>
          <a:xfrm>
            <a:off x="739152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0"/>
          <a:stretch/>
        </p:blipFill>
        <p:spPr>
          <a:xfrm>
            <a:off x="4038480" y="5029200"/>
            <a:ext cx="1067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ales B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ne chocolate bonus for each salesperson who has a released Requ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83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nd of Iter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5 Salespeople repres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10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xtra client requests and story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stimate Business Value by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er Velocity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ep 1: Assign Busines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ort stories by Business Value/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9: Update each Client's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85800" y="4700520"/>
            <a:ext cx="7543800" cy="0"/>
          </a:xfrm>
          <a:prstGeom prst="line">
            <a:avLst/>
          </a:prstGeom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5943600" y="4243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101"/>
                </a:solidFill>
                <a:latin typeface="Arial"/>
              </a:rPr>
              <a:t>Wai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2"/>
          <p:cNvSpPr txBox="1"/>
          <p:nvPr/>
        </p:nvSpPr>
        <p:spPr>
          <a:xfrm>
            <a:off x="6291360" y="28195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tio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1"/>
          <a:stretch/>
        </p:blipFill>
        <p:spPr>
          <a:xfrm>
            <a:off x="685800" y="2111400"/>
            <a:ext cx="8024760" cy="322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2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1"/>
          <a:stretch/>
        </p:blipFill>
        <p:spPr>
          <a:xfrm>
            <a:off x="685800" y="2111400"/>
            <a:ext cx="8024760" cy="322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2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07" name="Freeform 5"/>
          <p:cNvSpPr/>
          <p:nvPr/>
        </p:nvSpPr>
        <p:spPr>
          <a:xfrm rot="20940600">
            <a:off x="6299280" y="3184200"/>
            <a:ext cx="5331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 flipH="1">
            <a:off x="6858000" y="3124080"/>
            <a:ext cx="129528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I = 10% of previous Total, rounded down to the nearest multiple of 100€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685800" y="2111400"/>
            <a:ext cx="8024760" cy="322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2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13" name="Freeform 5"/>
          <p:cNvSpPr/>
          <p:nvPr/>
        </p:nvSpPr>
        <p:spPr>
          <a:xfrm rot="20940600">
            <a:off x="7129440" y="3184560"/>
            <a:ext cx="53352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4"/>
          <p:cNvSpPr/>
          <p:nvPr/>
        </p:nvSpPr>
        <p:spPr>
          <a:xfrm flipH="1">
            <a:off x="6476760" y="3124080"/>
            <a:ext cx="1600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= Earned Value + RO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6705720" y="34290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brief iterations 1 an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up Re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2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20" name="Picture 13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4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5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6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7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s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s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ep 1: Assign Busines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ort stories by Business Value/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9: Update each Client's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tio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brief iterations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up Re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34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 repres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ment team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termine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mplements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uilds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lldevs"/>
          <p:cNvPicPr/>
          <p:nvPr/>
        </p:nvPicPr>
        <p:blipFill>
          <a:blip r:embed="rId1"/>
          <a:stretch/>
        </p:blipFill>
        <p:spPr>
          <a:xfrm>
            <a:off x="5562720" y="3505320"/>
            <a:ext cx="2906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tions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tions 5 an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ep 1: Assign Busines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Distribute Business Value over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Sort stories by Business Value/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: Align Stories per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: Select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: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7: Update Client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8: Calc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9: Update each Client's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tio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brief iteration 5 an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up Ret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48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mmari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wnload from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ttp://www.xp.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e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wnload from 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reative commons.png"/>
          <p:cNvPicPr/>
          <p:nvPr/>
        </p:nvPicPr>
        <p:blipFill>
          <a:blip r:embed="rId1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eams of 6-7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alespeople repres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velopment team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Keeps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erifie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usiness Valu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ut all persona cards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Do it now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Goal of th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Earn m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24538" t="19877" r="24696" b="22352"/>
          <a:stretch/>
        </p:blipFill>
        <p:spPr>
          <a:xfrm>
            <a:off x="297180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ow can you earn m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leas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ll stories ar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4419720" y="4597560"/>
            <a:ext cx="304560" cy="1195200"/>
            <a:chOff x="4419720" y="4597560"/>
            <a:chExt cx="304560" cy="1195200"/>
          </a:xfrm>
        </p:grpSpPr>
        <p:sp>
          <p:nvSpPr>
            <p:cNvPr id="120" name="Text Box 5"/>
            <p:cNvSpPr/>
            <p:nvPr/>
          </p:nvSpPr>
          <p:spPr>
            <a:xfrm>
              <a:off x="4419720" y="45975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419720" y="48261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4419720" y="50529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4419720" y="52801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4419720" y="55069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800600" y="4584600"/>
            <a:ext cx="304560" cy="1195200"/>
            <a:chOff x="4800600" y="4584600"/>
            <a:chExt cx="304560" cy="1195200"/>
          </a:xfrm>
        </p:grpSpPr>
        <p:sp>
          <p:nvSpPr>
            <p:cNvPr id="126" name="Text Box 13"/>
            <p:cNvSpPr/>
            <p:nvPr/>
          </p:nvSpPr>
          <p:spPr>
            <a:xfrm>
              <a:off x="4800600" y="45846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4800600" y="48132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4800600" y="5040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800600" y="52671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4800600" y="549396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8"/>
          <p:cNvSpPr/>
          <p:nvPr/>
        </p:nvSpPr>
        <p:spPr>
          <a:xfrm>
            <a:off x="3860640" y="3695760"/>
            <a:ext cx="101628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scal Van Cauwenberghe</cp:lastModifiedBy>
  <dcterms:modified xsi:type="dcterms:W3CDTF">2009-05-18T18:44:27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